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11.jpeg" ContentType="image/jpeg"/>
  <Override PartName="/ppt/media/image9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21.jpeg" ContentType="image/jpeg"/>
  <Override PartName="/ppt/media/image16.jpeg" ContentType="image/jpeg"/>
  <Override PartName="/ppt/media/image19.png" ContentType="image/png"/>
  <Override PartName="/ppt/media/image3.jpeg" ContentType="image/jpeg"/>
  <Override PartName="/ppt/media/image17.png" ContentType="image/png"/>
  <Override PartName="/ppt/media/image15.jpeg" ContentType="image/jpeg"/>
  <Override PartName="/ppt/media/image14.jpeg" ContentType="image/jpeg"/>
  <Override PartName="/ppt/media/image2.png" ContentType="image/png"/>
  <Override PartName="/ppt/media/image22.jpeg" ContentType="image/jpeg"/>
  <Override PartName="/ppt/media/image1.jpeg" ContentType="image/jpeg"/>
  <Override PartName="/ppt/media/image4.png" ContentType="image/png"/>
  <Override PartName="/ppt/media/image13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E315-418C-4170-93CE-2B214CE48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1AAD-2144-4F12-AE33-E0D1DD7B1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D4F5-3157-4F2E-8F3D-6DA176458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73D6A-1678-45D4-9D09-1FBBBDD34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0426D-E778-4635-8731-87659254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7F5A1-57CF-4404-88F3-5C5283CBF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4DED-F816-4877-BB77-4D036A05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DED1-0656-4156-805F-E7410B42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D3194-73BF-4AE4-9A0F-D2C968A4F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BF585-0759-405C-9C6F-78BAC080C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2308-6436-4C48-BC5F-993ACCD3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D3C04-42D0-4B98-9E8E-4E047E6F4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A12AE-C411-4097-97E8-B3E502D71692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E4BE4-3416-494F-8587-74DBB37FE9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920" y="-171720"/>
            <a:ext cx="864216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ЖДУНАРОДНАЯ НАУЧНО - ИССЛЕДОВАТЕЛЬСКОЙ 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ФЕРЕНЦИИ  ШКОЛЬНИКОВ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БУДУЩЕЕ – ЭТО МЫ!»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9280" y="692280"/>
            <a:ext cx="896472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тельская работ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ЬЗОВАНИЕ ГИДРОПОННОГО МЕТОД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ВЫРАЩИВАНИИ ГОРОХА С ВНЕСЕНИЕМ МАКРОЭЛЕМЕНТОВ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домова Ирина Борисовна,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рзамагомедова Хадижа Надировн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ающиеся 7 класса, ГБОУ школа №334 Невского района Санкт-Петербург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одзаголовок 2"/>
          <p:cNvSpPr/>
          <p:nvPr/>
        </p:nvSpPr>
        <p:spPr>
          <a:xfrm>
            <a:off x="5508720" y="4221000"/>
            <a:ext cx="36352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Руководители работы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кляева Анна Александро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биологии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рецова Виктория Евгеньевн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читель хим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БОУ школа №334 Невского района СПб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Подзаголовок 2"/>
          <p:cNvSpPr/>
          <p:nvPr/>
        </p:nvSpPr>
        <p:spPr>
          <a:xfrm>
            <a:off x="1547640" y="5805360"/>
            <a:ext cx="6235920" cy="10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нкт-Петербур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4313A-790B-48B2-A89E-DE884C62D39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ЛИЗ РЕЗУЛЬТАТОВ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средних значений высоты растений по д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Овал 8"/>
          <p:cNvSpPr/>
          <p:nvPr/>
        </p:nvSpPr>
        <p:spPr>
          <a:xfrm>
            <a:off x="7020000" y="3789360"/>
            <a:ext cx="216000" cy="2160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9"/>
          <p:cNvSpPr/>
          <p:nvPr/>
        </p:nvSpPr>
        <p:spPr>
          <a:xfrm>
            <a:off x="7020000" y="443700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Box 3"/>
          <p:cNvSpPr/>
          <p:nvPr/>
        </p:nvSpPr>
        <p:spPr>
          <a:xfrm>
            <a:off x="8028000" y="3141720"/>
            <a:ext cx="865080" cy="115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Box 3"/>
          <p:cNvSpPr/>
          <p:nvPr/>
        </p:nvSpPr>
        <p:spPr>
          <a:xfrm>
            <a:off x="7308720" y="3573360"/>
            <a:ext cx="16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1 (макроэлем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2 (контро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0DCC3-4ED3-456A-954E-FB6DD12DF09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Диаграмма 13" descr=""/>
          <p:cNvPicPr/>
          <p:nvPr/>
        </p:nvPicPr>
        <p:blipFill>
          <a:blip r:embed="rId1"/>
          <a:stretch/>
        </p:blipFill>
        <p:spPr>
          <a:xfrm>
            <a:off x="244440" y="1908000"/>
            <a:ext cx="6997680" cy="433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468360" y="1197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афик средних значений количества листьев по дня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TextBox 4"/>
          <p:cNvSpPr/>
          <p:nvPr/>
        </p:nvSpPr>
        <p:spPr>
          <a:xfrm>
            <a:off x="181080" y="1844640"/>
            <a:ext cx="1145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-во лист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Box 3"/>
          <p:cNvSpPr/>
          <p:nvPr/>
        </p:nvSpPr>
        <p:spPr>
          <a:xfrm>
            <a:off x="7308720" y="3573360"/>
            <a:ext cx="16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1 (макроэлем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2 (контро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8"/>
          <p:cNvSpPr/>
          <p:nvPr/>
        </p:nvSpPr>
        <p:spPr>
          <a:xfrm>
            <a:off x="7020000" y="3860640"/>
            <a:ext cx="216000" cy="2160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9"/>
          <p:cNvSpPr/>
          <p:nvPr/>
        </p:nvSpPr>
        <p:spPr>
          <a:xfrm>
            <a:off x="7020000" y="450864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D8C8-0C9A-4A33-8597-C5920AB52A2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Диаграмма 11" descr=""/>
          <p:cNvPicPr/>
          <p:nvPr/>
        </p:nvPicPr>
        <p:blipFill>
          <a:blip r:embed="rId1"/>
          <a:stretch/>
        </p:blipFill>
        <p:spPr>
          <a:xfrm>
            <a:off x="317520" y="2200320"/>
            <a:ext cx="685152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11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средних значений растительной масс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TextBox 4"/>
          <p:cNvSpPr/>
          <p:nvPr/>
        </p:nvSpPr>
        <p:spPr>
          <a:xfrm>
            <a:off x="258120" y="1628640"/>
            <a:ext cx="68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сса, 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3"/>
          <p:cNvSpPr/>
          <p:nvPr/>
        </p:nvSpPr>
        <p:spPr>
          <a:xfrm>
            <a:off x="7308720" y="3573360"/>
            <a:ext cx="1656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1 (макроэлем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2 (контро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8"/>
          <p:cNvSpPr/>
          <p:nvPr/>
        </p:nvSpPr>
        <p:spPr>
          <a:xfrm>
            <a:off x="6948360" y="3860640"/>
            <a:ext cx="216000" cy="2160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9"/>
          <p:cNvSpPr/>
          <p:nvPr/>
        </p:nvSpPr>
        <p:spPr>
          <a:xfrm>
            <a:off x="6948360" y="4508640"/>
            <a:ext cx="216000" cy="21564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617E89-4588-4566-98A2-562364EC34E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Диаграмма 11" descr=""/>
          <p:cNvPicPr/>
          <p:nvPr/>
        </p:nvPicPr>
        <p:blipFill>
          <a:blip r:embed="rId1"/>
          <a:stretch/>
        </p:blipFill>
        <p:spPr>
          <a:xfrm>
            <a:off x="676440" y="2200320"/>
            <a:ext cx="5821200" cy="38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95280" y="981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иаграмма средней длины корневой систем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ЗУЛЬТА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7488360" y="3573360"/>
            <a:ext cx="165564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1 (макроэлемент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2 (контроль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7"/>
          <p:cNvSpPr/>
          <p:nvPr/>
        </p:nvSpPr>
        <p:spPr>
          <a:xfrm>
            <a:off x="7164360" y="3860640"/>
            <a:ext cx="216000" cy="216000"/>
          </a:xfrm>
          <a:prstGeom prst="ellipse">
            <a:avLst/>
          </a:prstGeom>
          <a:solidFill>
            <a:srgbClr val="00206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8"/>
          <p:cNvSpPr/>
          <p:nvPr/>
        </p:nvSpPr>
        <p:spPr>
          <a:xfrm>
            <a:off x="7164360" y="4437000"/>
            <a:ext cx="216000" cy="216000"/>
          </a:xfrm>
          <a:prstGeom prst="ellipse">
            <a:avLst/>
          </a:prstGeom>
          <a:solidFill>
            <a:srgbClr val="ffff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4"/>
          <p:cNvSpPr/>
          <p:nvPr/>
        </p:nvSpPr>
        <p:spPr>
          <a:xfrm>
            <a:off x="256680" y="1628640"/>
            <a:ext cx="83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на, м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10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B3329-09D0-4160-A3E3-1D344BEF0A7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Диаграмма 11" descr=""/>
          <p:cNvPicPr/>
          <p:nvPr/>
        </p:nvPicPr>
        <p:blipFill>
          <a:blip r:embed="rId1"/>
          <a:stretch/>
        </p:blipFill>
        <p:spPr>
          <a:xfrm>
            <a:off x="463680" y="2200320"/>
            <a:ext cx="6132240" cy="404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79280" y="1052640"/>
            <a:ext cx="8964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 гидропоники является альтернативой методу выращивания растений в почв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рфологические признаки (высота растений, вес растений, длина корневой системы, количество листьев) зависят от внесения макроэлементов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с внесением макроэлементов является более эффективным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EB7B8-CA4F-4017-BBBA-A19E1DA84E0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11280" y="90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294064-C9E4-46DB-BB22-A456CFC4B3B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4" descr="F:\Новая папка\Новая папка\IMG_1484.JPG"/>
          <p:cNvPicPr/>
          <p:nvPr/>
        </p:nvPicPr>
        <p:blipFill>
          <a:blip r:embed="rId1"/>
          <a:stretch/>
        </p:blipFill>
        <p:spPr>
          <a:xfrm>
            <a:off x="-14630400" y="-10972800"/>
            <a:ext cx="4805280" cy="36036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4" descr="F:\Новая папка\Новая папка\IMG_1484.JPG"/>
          <p:cNvPicPr/>
          <p:nvPr/>
        </p:nvPicPr>
        <p:blipFill>
          <a:blip r:embed="rId2"/>
          <a:stretch/>
        </p:blipFill>
        <p:spPr>
          <a:xfrm>
            <a:off x="2268360" y="2349360"/>
            <a:ext cx="4886640" cy="38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идропони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0" y="1196640"/>
            <a:ext cx="9144000" cy="136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ращивание растений без грунта,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итательных раствора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Номер слайда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32547-A22C-4C40-959B-54C542318D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Картинки по запросу гидропоника"/>
          <p:cNvPicPr/>
          <p:nvPr/>
        </p:nvPicPr>
        <p:blipFill>
          <a:blip r:embed="rId1"/>
          <a:stretch/>
        </p:blipFill>
        <p:spPr>
          <a:xfrm>
            <a:off x="4788000" y="3068640"/>
            <a:ext cx="4224240" cy="31687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4" descr="Картинки по запросу гидропоника"/>
          <p:cNvPicPr/>
          <p:nvPr/>
        </p:nvPicPr>
        <p:blipFill>
          <a:blip r:embed="rId2"/>
          <a:stretch/>
        </p:blipFill>
        <p:spPr>
          <a:xfrm>
            <a:off x="179280" y="3078000"/>
            <a:ext cx="432144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611280" y="1916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Проследить динамику роста ростков гороха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 Проводить фиксацию и контроль морфологических признаков раст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. Сравнить показатели, полученные в опытах с внесением макроэлементов и в контрольных образцах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445600" cy="17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: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учение отклонений в росте и развитии ростков гороха при выращивании гидропонным методом с внесением макроэлементов.</a:t>
            </a: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03A0E-B5A8-4130-9FC1-AB960AF9B62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 исследов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95280" y="1052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остки гороха посевного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isum sativum 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2" descr="http://900igr.net/datai/biologija/Evoljutsionnyj-protsess/0004-005-Primerami-gomologichnykh-organov-u-rastenij-javljajutsja.jpg"/>
          <p:cNvPicPr/>
          <p:nvPr/>
        </p:nvPicPr>
        <p:blipFill>
          <a:blip r:embed="rId1"/>
          <a:stretch/>
        </p:blipFill>
        <p:spPr>
          <a:xfrm>
            <a:off x="5651640" y="2349360"/>
            <a:ext cx="2619360" cy="4162680"/>
          </a:xfrm>
          <a:prstGeom prst="rect">
            <a:avLst/>
          </a:prstGeom>
          <a:ln w="0">
            <a:noFill/>
          </a:ln>
        </p:spPr>
      </p:pic>
      <p:sp>
        <p:nvSpPr>
          <p:cNvPr id="5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B0AAF-07F6-4960-AA85-F6E6C798AF0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Рисунок 6" descr=""/>
          <p:cNvPicPr/>
          <p:nvPr/>
        </p:nvPicPr>
        <p:blipFill>
          <a:blip r:embed="rId2"/>
          <a:stretch/>
        </p:blipFill>
        <p:spPr>
          <a:xfrm>
            <a:off x="1547640" y="2565360"/>
            <a:ext cx="3600720" cy="36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9528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125360"/>
            <a:ext cx="4464000" cy="226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ращивание семян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7 дней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1" descr="D:\фото иссл. раб\IMG_4400.JPG"/>
          <p:cNvPicPr/>
          <p:nvPr/>
        </p:nvPicPr>
        <p:blipFill>
          <a:blip r:embed="rId1"/>
          <a:stretch/>
        </p:blipFill>
        <p:spPr>
          <a:xfrm>
            <a:off x="324000" y="3537000"/>
            <a:ext cx="4032000" cy="3024000"/>
          </a:xfrm>
          <a:prstGeom prst="rect">
            <a:avLst/>
          </a:prstGeom>
          <a:ln w="0">
            <a:noFill/>
          </a:ln>
        </p:spPr>
      </p:pic>
      <p:sp>
        <p:nvSpPr>
          <p:cNvPr id="62" name="Прямоугольник 5"/>
          <p:cNvSpPr/>
          <p:nvPr/>
        </p:nvSpPr>
        <p:spPr>
          <a:xfrm>
            <a:off x="4716360" y="5373720"/>
            <a:ext cx="403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бор пророст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5949-28F9-4C5E-AA75-374F4358FB9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Рисунок 7" descr="F:\исслед раб 7 класс\IMG_1223.JPG"/>
          <p:cNvPicPr/>
          <p:nvPr/>
        </p:nvPicPr>
        <p:blipFill>
          <a:blip r:embed="rId2"/>
          <a:stretch/>
        </p:blipFill>
        <p:spPr>
          <a:xfrm>
            <a:off x="4643280" y="981000"/>
            <a:ext cx="4105440" cy="30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68360" y="692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Приготовление питательного раствор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твор Кнопа (с макроэлементами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 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роль (водопроводная вод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Рисунок 4" descr="D:\фото иссл. раб\IMG_4388.JPG"/>
          <p:cNvPicPr/>
          <p:nvPr/>
        </p:nvPicPr>
        <p:blipFill>
          <a:blip r:embed="rId1"/>
          <a:stretch/>
        </p:blipFill>
        <p:spPr>
          <a:xfrm>
            <a:off x="250920" y="2708280"/>
            <a:ext cx="2952720" cy="2374920"/>
          </a:xfrm>
          <a:prstGeom prst="rect">
            <a:avLst/>
          </a:prstGeom>
          <a:ln w="0">
            <a:noFill/>
          </a:ln>
        </p:spPr>
      </p:pic>
      <p:sp>
        <p:nvSpPr>
          <p:cNvPr id="68" name="Номер слайда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EDB6F-D2C8-4C1E-8C8C-A6381C812B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7" descr="F:\исслед раб 7 класс\Новая папка\IMG_1449.JPG"/>
          <p:cNvPicPr/>
          <p:nvPr/>
        </p:nvPicPr>
        <p:blipFill>
          <a:blip r:embed="rId2"/>
          <a:stretch/>
        </p:blipFill>
        <p:spPr>
          <a:xfrm>
            <a:off x="6024600" y="2349360"/>
            <a:ext cx="3119400" cy="257364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8" descr="F:\исслед раб 7 класс\Новая папка\IMG_1466.JPG"/>
          <p:cNvPicPr/>
          <p:nvPr/>
        </p:nvPicPr>
        <p:blipFill>
          <a:blip r:embed="rId3"/>
          <a:stretch/>
        </p:blipFill>
        <p:spPr>
          <a:xfrm>
            <a:off x="-14630400" y="-10972800"/>
            <a:ext cx="4805280" cy="36036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9" descr="F:\исслед раб 7 класс\Новая папка\IMG_1466.JPG"/>
          <p:cNvPicPr/>
          <p:nvPr/>
        </p:nvPicPr>
        <p:blipFill>
          <a:blip r:embed="rId4"/>
          <a:stretch/>
        </p:blipFill>
        <p:spPr>
          <a:xfrm>
            <a:off x="2916360" y="3933720"/>
            <a:ext cx="352728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46836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адка пророст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10 экземпляров в каждом опыте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F9780-08BD-43EB-8540-62D06271B4D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6" descr="F:\исслед раб 7 класс\IMG_1395.JPG"/>
          <p:cNvPicPr/>
          <p:nvPr/>
        </p:nvPicPr>
        <p:blipFill>
          <a:blip r:embed="rId1"/>
          <a:stretch/>
        </p:blipFill>
        <p:spPr>
          <a:xfrm>
            <a:off x="0" y="1916280"/>
            <a:ext cx="2843280" cy="3889080"/>
          </a:xfrm>
          <a:prstGeom prst="rect">
            <a:avLst/>
          </a:prstGeom>
          <a:ln w="0">
            <a:noFill/>
          </a:ln>
        </p:spPr>
      </p:pic>
      <p:pic>
        <p:nvPicPr>
          <p:cNvPr id="76" name="Рисунок 7" descr="F:\исслед раб 7 класс\IMG_1414.JPG"/>
          <p:cNvPicPr/>
          <p:nvPr/>
        </p:nvPicPr>
        <p:blipFill>
          <a:blip r:embed="rId2"/>
          <a:stretch/>
        </p:blipFill>
        <p:spPr>
          <a:xfrm>
            <a:off x="6399360" y="1916280"/>
            <a:ext cx="2744640" cy="38052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8" descr="D:\фото иссл. раб\IMG_4424.JPG"/>
          <p:cNvPicPr/>
          <p:nvPr/>
        </p:nvPicPr>
        <p:blipFill>
          <a:blip r:embed="rId3"/>
          <a:stretch/>
        </p:blipFill>
        <p:spPr>
          <a:xfrm>
            <a:off x="2916360" y="3860640"/>
            <a:ext cx="3384360" cy="274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 txBox="1"/>
          <p:nvPr/>
        </p:nvSpPr>
        <p:spPr>
          <a:xfrm>
            <a:off x="539640" y="836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жедневные морфологические промеры проростк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сота растения от субстрат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личество листь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68360" y="-243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КА ИССЛЕДОВАНИ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Содержимое 2"/>
          <p:cNvSpPr/>
          <p:nvPr/>
        </p:nvSpPr>
        <p:spPr>
          <a:xfrm>
            <a:off x="900000" y="6046920"/>
            <a:ext cx="770436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ительность опыта – 21 ден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Номер слайда 7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37E05-A105-4AE5-84BB-DAF7AFA2FC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Рисунок 8" descr="D:\фото иссл. раб\IMG_4421.JPG"/>
          <p:cNvPicPr/>
          <p:nvPr/>
        </p:nvPicPr>
        <p:blipFill>
          <a:blip r:embed="rId1"/>
          <a:stretch/>
        </p:blipFill>
        <p:spPr>
          <a:xfrm>
            <a:off x="5219640" y="2781360"/>
            <a:ext cx="3646440" cy="269856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9" descr="F:\исслед раб 7 класс\Новая папка\IMG_1471.JPG"/>
          <p:cNvPicPr/>
          <p:nvPr/>
        </p:nvPicPr>
        <p:blipFill>
          <a:blip r:embed="rId2"/>
          <a:stretch/>
        </p:blipFill>
        <p:spPr>
          <a:xfrm>
            <a:off x="324000" y="2492280"/>
            <a:ext cx="4032000" cy="30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360" y="-316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РАБОТКА РЕЗУЛЬТАТОВ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539640" y="764640"/>
            <a:ext cx="8229600" cy="45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р высоты ростков;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счет количества листьев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р длины корне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звешивание растений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счет средних значений для каждого показателя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троение график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6" name="Picture 2" descr="D:\фото иссл. раб\IMG_4461.JPG"/>
          <p:cNvPicPr/>
          <p:nvPr/>
        </p:nvPicPr>
        <p:blipFill>
          <a:blip r:embed="rId1"/>
          <a:stretch/>
        </p:blipFill>
        <p:spPr>
          <a:xfrm>
            <a:off x="2987640" y="3716280"/>
            <a:ext cx="3673440" cy="2754360"/>
          </a:xfrm>
          <a:prstGeom prst="rect">
            <a:avLst/>
          </a:prstGeom>
          <a:ln w="0">
            <a:noFill/>
          </a:ln>
        </p:spPr>
      </p:pic>
      <p:sp>
        <p:nvSpPr>
          <p:cNvPr id="87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756E3-1468-4C5B-9D0C-3211A4C14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3-11T08:44:56Z</dcterms:created>
  <dc:creator>Shkljaeva</dc:creator>
  <dc:description/>
  <dc:language>en-US</dc:language>
  <cp:lastModifiedBy>Ostrecova</cp:lastModifiedBy>
  <dcterms:modified xsi:type="dcterms:W3CDTF">2017-03-02T14:45:44Z</dcterms:modified>
  <cp:revision>29</cp:revision>
  <dc:subject/>
  <dc:title>Слайд 1</dc:title>
</cp:coreProperties>
</file>